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.png" ContentType="image/png"/>
  <Override PartName="/ppt/media/image3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4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D1B-BE3D-46FC-9BEA-23CC1D98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D99-7452-49EB-9485-275748A2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772A-752C-4FAA-8EDA-851C517E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A57-1831-48BD-8F4C-A85DC8F9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035-3F36-4120-812F-F0DF85E2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9AA-036A-46B3-942C-9FEE02C2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347-7556-4FC5-8C91-191FB346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685-EDF7-49AF-A868-645A6A0D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AA3-F0B1-4A59-A201-FDAA7196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7D4-07E1-4A27-B4F8-16574144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EEF-275E-4D12-9FAB-C1DE4183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35D-A148-4D33-96D9-E020DDFF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19B2-8EB7-4A6E-BACE-34001098350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Otpor u strujnom kru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ični otpor jednak je količniku napona i struje. Označavamo ga sa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a kažemo da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rna jedinica za otpor naziva se om (znak </a:t>
            </a: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2556000" y="2997360"/>
            <a:ext cx="3809880" cy="8665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1314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4"/>
          <a:stretch/>
        </p:blipFill>
        <p:spPr>
          <a:xfrm>
            <a:off x="4643280" y="4149720"/>
            <a:ext cx="1285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 definiciji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l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Otpor različitih troš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i je otpor žaruljice, otpornika i grafitne mine u olovc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6"/>
          <a:stretch/>
        </p:blipFill>
        <p:spPr>
          <a:xfrm>
            <a:off x="1403280" y="2349360"/>
            <a:ext cx="2095560" cy="9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7"/>
          <a:stretch/>
        </p:blipFill>
        <p:spPr>
          <a:xfrm>
            <a:off x="4572000" y="2421000"/>
            <a:ext cx="11145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koji je vodič vrijednost električnog otpora najveća, a za koji najman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868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3" descr="SnapShot(603).jpg"/>
          <p:cNvPicPr/>
          <p:nvPr/>
        </p:nvPicPr>
        <p:blipFill>
          <a:blip r:embed="rId1"/>
          <a:srcRect l="13386" t="27650" r="4528" b="0"/>
          <a:stretch/>
        </p:blipFill>
        <p:spPr>
          <a:xfrm>
            <a:off x="179280" y="1700280"/>
            <a:ext cx="885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O čemu ovisi električni otpo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ični otpor žice ovisi o njezinoj duljini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ršini poprečnog presjeka </a:t>
            </a:r>
            <a:r>
              <a:rPr b="1" i="1" lang="hr-HR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e o otpornosti </a:t>
            </a:r>
            <a:r>
              <a:rPr b="1" i="1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i="1" lang="el-G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terijala od kojeg je žica načinjena. Otpor je to veći što je žica duža i što joj je poprečni presjek površinom manj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3564000" y="4365720"/>
            <a:ext cx="17622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ličite žice jednakih duljina i poprečnih poprečnih presjeka imaju različite električne otpo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U različitim električnim uređajima nalazimo otpornike stalnog otpora. Rabe se i otpornici promjenljiva otpora koji se ugrađuju ondje gdje je potrebno postupno mijenjati struj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2050920" y="5157720"/>
            <a:ext cx="42116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3" descr="SnapShot(465).jpg"/>
          <p:cNvPicPr/>
          <p:nvPr/>
        </p:nvPicPr>
        <p:blipFill>
          <a:blip r:embed="rId2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objasniti električni otpor vodič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struja prolazi, elektroni se vodičem gibaju usmjereno i sudaraju se s ionima koji titraju oko svojih ravnotežnih položaj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 sudaranje ometa prolazak struje vodičem pa ga iskazujemo ka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ični otpor vodič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19:01:48Z</dcterms:created>
  <dc:creator>Zdenko</dc:creator>
  <dc:description/>
  <dc:language>en-US</dc:language>
  <cp:lastModifiedBy>Zdenko</cp:lastModifiedBy>
  <dcterms:modified xsi:type="dcterms:W3CDTF">2014-07-18T09:24:09Z</dcterms:modified>
  <cp:revision>4</cp:revision>
  <dc:subject/>
  <dc:title>Otpor u strujnom krugu</dc:title>
</cp:coreProperties>
</file>